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0121E-E304-4851-B7BD-D0A1DA2299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28823-9FD6-4480-8718-9C16EC9ADC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C77C2-387D-4898-853A-502838CA66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5AF9A-D91B-4C0E-B9EF-85F567D9E1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63EFF-74C8-4551-902E-BBB5ACE8A6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18529-FE93-4CD5-A280-44D2A307BC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9E980-00F8-40E3-82C3-582F1EFD53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392F2-223E-4567-94D4-5B3607794F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437920" y="-360"/>
            <a:ext cx="6705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A398A-5944-4DC8-8E83-3F7C79CAEA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D4C7C-5C06-439E-A5E2-8287C9B720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6F2F8-F493-4278-83E1-E87737FDAE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67255-C442-4E00-AAC0-330F38B842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04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04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62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19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19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19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02400" y="6454440"/>
            <a:ext cx="28404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63F4-E338-4522-938E-30D92E2E417D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514600" y="0"/>
            <a:ext cx="6642000" cy="1219320"/>
          </a:xfrm>
          <a:prstGeom prst="rect">
            <a:avLst/>
          </a:prstGeom>
          <a:gradFill rotWithShape="0">
            <a:gsLst>
              <a:gs pos="0">
                <a:srgbClr val="ffcc00">
                  <a:alpha val="55294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57520" cy="7812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2556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685800"/>
            <a:ext cx="2298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ENGR330-1 Engineering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Service Project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03320" y="-360"/>
            <a:ext cx="6251400" cy="1219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oject:  Peltan Perimeter Wall Desig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63360" y="5562720"/>
            <a:ext cx="8597880" cy="118116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Grande"/>
                <a:ea typeface="Lucida Grande"/>
              </a:rPr>
              <a:t>Benefits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: 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EALTH: improves the safety of both the children and equipment.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USTAINABILITY: should need very little maintenance if built properly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OST: $8500+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AITIAN OWNERSHIP:  complete ownership, and added security of asset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1268280"/>
            <a:ext cx="849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Grande"/>
                <a:ea typeface="Lucida Grande"/>
              </a:rPr>
              <a:t>Background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: The Peltan school, for both the safety of the Children and to help prevent theft and vandalism have asked that we design a perimeter wall for them to construct.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"/>
          <p:cNvSpPr/>
          <p:nvPr/>
        </p:nvSpPr>
        <p:spPr>
          <a:xfrm>
            <a:off x="108000" y="1828800"/>
            <a:ext cx="443232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Grande"/>
                <a:ea typeface="Lucida Grande"/>
              </a:rPr>
              <a:t>Importance: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is project is crucial in the continuing of projects ther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Grande"/>
                <a:ea typeface="Lucida Grande"/>
              </a:rPr>
              <a:t>Objectives: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obtain a materials and cost estimate for a wall to enclose the school ground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esign so that the wall will be stabl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esign an entrance through the wall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Grande"/>
                <a:ea typeface="Lucida Grande"/>
              </a:rPr>
              <a:t>Findings/Solutions: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ough cost estimate: $8500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Grande"/>
                <a:ea typeface="Lucida Grande"/>
              </a:rPr>
              <a:t>Outstanding Problems: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 have not factored in cost for rebar or safety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 need to know what they want for an entranc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"/>
          <p:cNvSpPr/>
          <p:nvPr/>
        </p:nvSpPr>
        <p:spPr>
          <a:xfrm>
            <a:off x="4457880" y="1776240"/>
            <a:ext cx="4419360" cy="3632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EF04F-CFEB-4BFC-8A7E-9B0B63657B50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ch Wells</dc:creator>
  <dc:description/>
  <dc:language>en-US</dc:language>
  <cp:lastModifiedBy/>
  <cp:revision>0</cp:revision>
  <dc:subject/>
  <dc:title>Slide 1</dc:title>
</cp:coreProperties>
</file>